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C5AE-8B8A-42FF-9FAE-FC4171D84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F0DF-6024-4C87-9ED1-79F0397E2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C00-6F79-48E8-8EE1-81B51615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D723-7377-40B5-A74C-22A7417E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31D-5CEC-4D55-9A25-C8A4D493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0D3-C68F-4D87-BAB6-DC4F811F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A39C-D895-4E12-B493-E8743E56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1C39-2F81-45A9-AE7B-2811DC90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36C-6213-43AF-918D-0ED3DAC6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4FC-E4DE-4FC9-9CD3-73B4D3F8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20B-D861-4E10-B5C9-E9FCB4DF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6D1E-8B84-496B-BB28-80E1C3E7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37F2-C805-4A54-A75A-0B9B3841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19AD-D1DC-4B07-A519-6C6EE5DC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EF59-C382-415F-B615-0073C198D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elin Col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6002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, buenos dias? Mi nombre es Kaelin. Yo vivo en el New York City. Yo tengo catorce años.Yo tengo no hermanos. Yo soy bie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¿Quién quierer vomanos afuer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ada y tú? Nosotras tenemos estud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qué ha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495680"/>
            <a:ext cx="373392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í! ¿Cuándo? Yo voy corr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05520"/>
            <a:ext cx="441972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sperar,pued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962000" y="5791320"/>
            <a:ext cx="648000" cy="9334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57913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cansada y quiero comer cenar. Adi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stas ellas?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7"/>
          <p:cNvSpPr/>
          <p:nvPr/>
        </p:nvSpPr>
        <p:spPr>
          <a:xfrm>
            <a:off x="2819520" y="6477120"/>
            <a:ext cx="373356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us hermanas son boni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6" descr="Photo on 2011-10-21 at 13.53 #2.jpg"/>
          <p:cNvPicPr/>
          <p:nvPr/>
        </p:nvPicPr>
        <p:blipFill>
          <a:blip r:embed="rId12"/>
          <a:stretch/>
        </p:blipFill>
        <p:spPr>
          <a:xfrm>
            <a:off x="2114640" y="6400800"/>
            <a:ext cx="4633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4:55:38Z</dcterms:modified>
  <cp:revision>106</cp:revision>
  <dc:subject/>
  <dc:title>Profile</dc:title>
</cp:coreProperties>
</file>